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4E6-C1AF-420F-8146-3B41FFE6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1D26-20C8-4103-9257-8C1A9BAC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CCEC-5C92-4ED1-8A99-7345C0B7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934-E4FE-4F12-8432-83F1D265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AFB6-C235-478B-A70F-4EC359D4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0FC3-175D-4A83-B769-88A089F9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7048-0818-4313-91DC-244EF1C6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0FCC-FDA8-4C7D-85B3-8053C594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B185-30A3-4B01-8E8E-DCCA535C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D5D4-683C-443C-ACC3-4EA2A88E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848C-1586-4B34-B7E6-67288BF5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516F-743A-4892-8D21-46596619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ED00-1D08-4640-B25A-3BF4583A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4942-8E5B-42FE-BE15-40B70953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30AA-FA90-45B9-8F78-522D4086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5C8C-15D6-455E-ADE8-ED74BECE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0BC7-D2C1-4B6B-872C-EC52C643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58B9-F492-4FC5-80EF-21C03BE2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65CC-E870-43A8-99CD-A7942A41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A850-F20E-4DB2-9177-B1064299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9C5-4FA6-4E01-934F-DF5478EA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E1B-52C5-4339-8A64-9D2B6F72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67BE-6AAF-45B4-A2DA-0927861D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D435-46DA-4F6D-B88F-7579A53D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B497-849D-4CD9-9297-0EA413B962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10DB-4463-48E6-90F4-5DDE7E8519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Arial"/>
              </a:rPr>
              <a:t>Preterite Verbs with </a:t>
            </a:r>
            <a:r>
              <a:rPr b="0" i="1" lang="es-ES" sz="4600" spc="-1" strike="noStrike">
                <a:solidFill>
                  <a:srgbClr val="ffffff"/>
                </a:solidFill>
                <a:latin typeface="Arial"/>
              </a:rPr>
              <a:t>i &gt; y</a:t>
            </a:r>
            <a:r>
              <a:rPr b="0" lang="es-ES" sz="4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600"/>
            </a:br>
            <a:r>
              <a:rPr b="0" lang="es-ES" sz="4600" spc="-1" strike="noStrike">
                <a:solidFill>
                  <a:srgbClr val="ffffff"/>
                </a:solidFill>
                <a:latin typeface="Arial"/>
              </a:rPr>
              <a:t>Stem Chang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Preterite </a:t>
            </a:r>
            <a:r>
              <a:rPr b="0" i="1" lang="es-ES" sz="3800" spc="-1" strike="noStrike">
                <a:solidFill>
                  <a:srgbClr val="ffffff"/>
                </a:solidFill>
                <a:latin typeface="Arial"/>
              </a:rPr>
              <a:t>i &gt; y</a:t>
            </a: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 Stem Change Verb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ertain verbs require a special spelling chang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becomes </a:t>
            </a: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Ud/él/ella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Uds./ellos/ella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for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LEER= to rea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le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leí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leí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leíste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er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CAERSE= to fall dow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me ca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te caí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se ca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nos caí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os caíste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se ca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er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94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CREER= to believe, to thin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re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reí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re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reí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reíste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re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er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OÍR= to he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o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oí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oí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oíste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er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DESTRUIR= to destro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destru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destrui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destru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destrui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destruiste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destru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er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80" y="3049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CONCLUIR= to conclu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160020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clu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clui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clu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648320" y="160020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clui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cluiste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clu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er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03:26:18Z</dcterms:created>
  <dc:creator>Suzanne M. Shirley</dc:creator>
  <dc:description/>
  <dc:language>en-US</dc:language>
  <cp:lastModifiedBy>Jessica Kaplan</cp:lastModifiedBy>
  <dcterms:modified xsi:type="dcterms:W3CDTF">2012-10-03T12:51:55Z</dcterms:modified>
  <cp:revision>8</cp:revision>
  <dc:subject/>
  <dc:title>Preterite Verbs with i &gt; y  Stem Change</dc:title>
</cp:coreProperties>
</file>